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gif" ContentType="image/gif"/>
  <Override PartName="/ppt/media/image3.gif" ContentType="image/gif"/>
  <Override PartName="/ppt/media/image7.png" ContentType="image/png"/>
  <Override PartName="/ppt/media/image4.gif" ContentType="image/gif"/>
  <Override PartName="/ppt/media/image6.gif" ContentType="image/gif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0356-5CC6-46E4-BCBE-1040041EF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2172-14E6-4DFF-85F0-5E025FEAF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8447-4BE5-4DA4-9D90-D54DB1D36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7273-37E2-4A7C-BF67-57A942E13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AE72-FA83-4B6E-B5F6-893E0276F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A808-3C3B-4346-949F-3CD7B803D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9CAB-CC73-4FCA-B21C-26BC5EE60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E47B-20CD-4C6B-8C67-74DF1CA3B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CC89-4A9D-4B91-BAB3-75C6BC8B6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67D8-FECC-440B-BBB7-15B1632D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32A2-FDB9-4EA1-AA28-BC6911E4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9369-81E4-4CAD-BABC-0A4A9A32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93454-A0ED-4D8D-9013-B500B01D5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23840"/>
            <a:ext cx="8915400" cy="66834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943600" y="3429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762120" y="2286000"/>
            <a:ext cx="2419200" cy="2857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057400" y="762120"/>
            <a:ext cx="4419720" cy="183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erry Christm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5" name=""/>
          <p:cNvSpPr/>
          <p:nvPr/>
        </p:nvSpPr>
        <p:spPr>
          <a:xfrm flipV="1" rot="9837000">
            <a:off x="4572000" y="54097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rom Mrs. Moo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400800" y="2057400"/>
            <a:ext cx="220968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09480" y="2971800"/>
            <a:ext cx="2076480" cy="2709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rot="20755800">
            <a:off x="838080" y="99036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9900"/>
                </a:solidFill>
                <a:latin typeface="Arial"/>
              </a:rPr>
              <a:t>Christmas Bless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477120" y="1066680"/>
            <a:ext cx="1199880" cy="1714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657600" y="1828800"/>
            <a:ext cx="1387440" cy="2286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3352680" y="5562720"/>
            <a:ext cx="5257800" cy="828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724280" y="56386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9900"/>
                </a:solidFill>
                <a:latin typeface="Arial"/>
              </a:rPr>
              <a:t>Mrs. Moo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22:50:18Z</dcterms:created>
  <dc:creator>Patrick J. Mooney</dc:creator>
  <dc:description/>
  <dc:language>en-US</dc:language>
  <cp:lastModifiedBy>Patrick J. Mooney</cp:lastModifiedBy>
  <dcterms:modified xsi:type="dcterms:W3CDTF">2009-12-07T23:05:16Z</dcterms:modified>
  <cp:revision>2</cp:revision>
  <dc:subject/>
  <dc:title>Slide 1</dc:title>
</cp:coreProperties>
</file>